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83E-8F09-4697-B493-F3765F5D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A2E-B5BA-4609-B91A-DB7FD90A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834-7588-412A-AB8A-A4EF5AB2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A34-3C75-46E3-B197-6AB5A4EA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C5E-9B08-4E84-BABD-0810782E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63E-B519-4B21-BEA6-5C186061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3DD-AB84-4720-B386-977B7FBE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46A-2831-4EEB-9D56-376C589A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1D0-1BA1-477F-9044-86CB6779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5F0-A04D-4987-B441-CC26976B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C96-A151-4EFA-97BB-AE61122F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16F-3B98-4B51-A5D1-EA41A58E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B446-2C45-4970-AF47-68A80E394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formation for the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overs Chapter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conjugat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“was, wer, wi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s and goodb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ask and answer questions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like to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“gern” and “nicht ger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ble to write about some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 = (2 ques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45:45Z</dcterms:created>
  <dc:creator>udsd</dc:creator>
  <dc:description/>
  <dc:language>en-US</dc:language>
  <cp:lastModifiedBy>udsd</cp:lastModifiedBy>
  <dcterms:modified xsi:type="dcterms:W3CDTF">2009-03-04T19:46:54Z</dcterms:modified>
  <cp:revision>1</cp:revision>
  <dc:subject/>
  <dc:title>Slide 1</dc:title>
</cp:coreProperties>
</file>